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732-68AB-4EAC-B238-D88A01D8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51B-EE99-4E98-8276-27915202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3BB-DA62-4847-A086-EA6E4550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016-D05B-4065-917B-E55E81BE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E2A7-5223-4376-802D-4444C856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2D05-3BFE-49EE-9F78-46F0B00D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87F9-1F97-4115-BF17-1FD99C18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0A37-EF26-41CE-AC5F-9CAB7A7D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50F0-391E-42E0-8D1B-F05E6B5E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F022-EF28-4558-A38E-06C6B5D9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2855-EFAE-4C33-80C7-1023809B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E44E-F9FE-4A0A-85E0-90F13933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CC50-232D-44E3-8201-E2B5D1AF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C984-9240-45CF-8B2D-590CD143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9151-E44E-4B7D-AF2C-A66DD4CC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A115-61E3-442A-A2C9-BEEDC43A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CE39-ED24-427F-9C1F-33A08D66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F6885-217C-4BC7-BC69-AD9E8965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7821F-9F65-455C-963E-99C9F74B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B5994-570A-45D1-9922-972332B3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DA1B3-9447-48F5-BB36-1A0B8510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F12E0-C487-4315-BAD8-F1F8A6F7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B70-286B-45DB-B181-F40FD1F1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D1F6D-12D4-4EA6-9705-09898B66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BB6CD-4172-4BF2-B402-8966567E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6B9FF-C1ED-4E10-8AFF-20C131F7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25CD8-4559-4A1B-A533-284B0BA8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B58FE-F385-4195-9818-BEAF5160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24B9C-69B4-42B2-9E94-FD93D86F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D0C04-316E-45B2-B3CB-586A4072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61FD6-1B9D-43FD-8669-51D265C2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AC0BB-7BB1-42E7-8235-F8C09CD6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6A895-B31C-46A4-B5D5-72307135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A73-60B5-46FD-91F5-5FA07EC2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3C449-89DC-4EE4-9D9A-D8F81286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142DD-102D-4723-8D70-EA8CD38B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F5C00-1E70-408F-BA91-9DA3CF31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872C7-F14F-42E9-906C-018989BC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93CB4-B4DE-4CFE-BDE6-0D855A7E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13393-7ED6-4F0A-B8AC-DDD6D4B5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4B59A-1EC0-485B-AAA6-33CF10CF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5C89E-47DE-4065-B54C-C056199B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35022-1DDD-4E90-8D00-E96CB0DD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CD6E-A291-400F-9024-4639F47D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7037-FBBD-42F4-8C5B-AB0A08E7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F24E-C3F3-48FC-88DB-0312F1C2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215-2488-4662-BEC1-6E7D6B83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ADFF-FC7C-40A1-A689-8B68604F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F1DD-4B73-4CC3-82FD-6CC707739E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6E5C-1149-419E-8181-3FBD073571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118E-3143-4E60-97B2-801227794B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72CC-7A66-4E71-A408-652AFCDAC3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53352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5th Grade Social Studi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9810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udents should realize their current position in the world is a result of hundreds of years of movement of people and ideas.  As adolescent Americans, they come to realize the global community is more easily accessible than expected due to technology.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Historical Contex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istory of the United States dates back about 400 yea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istory of China and Vietnam both date back more than dates back more than 2,000 year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Impact of War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Vietnam, the Vietnam War is referred to as the U.S. W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,000,000 Vietnamese (10% of the population) were killed or woun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Influence of Invention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pow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e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2975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imilarities and Differences Among Cultur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pite the thousands of miles of separation, people of China, Vietnam, and America are, well…just peop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basic needs are the same, but some of our cultural values vary because of history and lo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imilarities and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 is valued and teachers are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ests are often treated with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, music and literature are all important in the different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ing face” is important in China and 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of nutritional value is considered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 of the same sex might hold hands in public, but not men and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hina, Vietnam…or Raleigh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will view a picture each day with a caption, and they will have to decide if the picture is from far-away destinations such as China or Vietnam, or if it was taken in their city of residence -- Raleig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will make them realize the Western influences present in Asia, as well as the Asian influences in their hometow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hina, Vietnam, or Ralei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4876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w beef, peanuts, jalapenos, mint, and shrimp cra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613480" cy="3757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14400" y="5867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 Cali Noodle House in Raleig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Diversity Fact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na has 1.3 billion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ore than 50 minority groups in Ch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nited States has 300 million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etnam has 80 million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ore than 50 minority groups in Vietn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Which Countries are Represented by the Students in our Room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nd your parents have brought customs and beliefs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erto 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kr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257800" y="2743200"/>
            <a:ext cx="25448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urrent Event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8 Olympics in Ch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ngth of China’s economy as the U.S. economy fal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ming Vietnamese econom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man rights and fair pay for work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Movement of Goods, People and Idea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percentage of our shirts, shoes and book bags in this class were made in China?  Vietnam?  The United Stat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23:50:57Z</dcterms:created>
  <dc:creator>William Wheeler</dc:creator>
  <dc:description/>
  <dc:language>en-US</dc:language>
  <cp:lastModifiedBy> </cp:lastModifiedBy>
  <dcterms:modified xsi:type="dcterms:W3CDTF">2008-04-24T01:55:27Z</dcterms:modified>
  <cp:revision>32</cp:revision>
  <dc:subject/>
  <dc:title>5th Grade Social Studies</dc:title>
</cp:coreProperties>
</file>